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565525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BE35-38AE-42AA-B735-87EE24E5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7480" y="2349360"/>
            <a:ext cx="303048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200" y="1769400"/>
            <a:ext cx="320832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200" y="4060440"/>
            <a:ext cx="320832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324-416C-4B47-A142-6BAA1246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7480" y="2349360"/>
            <a:ext cx="303048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200" y="1769400"/>
            <a:ext cx="15656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22680" y="1769400"/>
            <a:ext cx="15656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200" y="4060440"/>
            <a:ext cx="15656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22680" y="4060440"/>
            <a:ext cx="15656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BA3-D532-4265-9B4D-F3EA87E1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7480" y="2349360"/>
            <a:ext cx="303048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200" y="1769400"/>
            <a:ext cx="10328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63240" y="1769400"/>
            <a:ext cx="10328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47920" y="1769400"/>
            <a:ext cx="10328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200" y="4060440"/>
            <a:ext cx="10328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63240" y="4060440"/>
            <a:ext cx="10328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47920" y="4060440"/>
            <a:ext cx="10328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844-FF4C-4F67-9DFF-6311BAD7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7480" y="2349360"/>
            <a:ext cx="303048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200" y="1769400"/>
            <a:ext cx="3208320" cy="43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510-E74E-418B-8804-CF305D2A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7480" y="2349360"/>
            <a:ext cx="303048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200" y="1769400"/>
            <a:ext cx="3208320" cy="43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931-90FF-4531-96FD-C85B93BA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7480" y="2349360"/>
            <a:ext cx="303048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200" y="1769400"/>
            <a:ext cx="1565640" cy="43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22680" y="1769400"/>
            <a:ext cx="1565640" cy="43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E43-99C3-440E-9B40-18A81E17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7480" y="2349360"/>
            <a:ext cx="303048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96D-0FE1-4044-8E12-D897FFFC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7480" y="2349360"/>
            <a:ext cx="3030480" cy="75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F270-CBF2-4DFE-AAFB-F5A589A9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7480" y="2349360"/>
            <a:ext cx="303048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200" y="1769400"/>
            <a:ext cx="15656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22680" y="1769400"/>
            <a:ext cx="1565640" cy="43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200" y="4060440"/>
            <a:ext cx="15656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BC45-4A5B-429B-A1D0-BE6831AE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7480" y="2349360"/>
            <a:ext cx="303048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200" y="1769400"/>
            <a:ext cx="1565640" cy="43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22680" y="1769400"/>
            <a:ext cx="15656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22680" y="4060440"/>
            <a:ext cx="15656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842-35CA-4FC7-BB6B-55556990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7480" y="2349360"/>
            <a:ext cx="303048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200" y="1769400"/>
            <a:ext cx="15656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22680" y="1769400"/>
            <a:ext cx="15656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200" y="4060440"/>
            <a:ext cx="320832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A9EF-0349-4A18-AFFE-59E1D6A1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d 2" descr="vorlage_kreuzraster_DIN_lang_hoch_99.eps"/>
          <p:cNvPicPr/>
          <p:nvPr/>
        </p:nvPicPr>
        <p:blipFill>
          <a:blip r:embed="rId2"/>
          <a:stretch/>
        </p:blipFill>
        <p:spPr>
          <a:xfrm>
            <a:off x="-107280" y="-106560"/>
            <a:ext cx="3779640" cy="777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67480" y="2349360"/>
            <a:ext cx="3030480" cy="162072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Titelmasterformat durch Klicken bearbeiten</a:t>
            </a:r>
            <a:endParaRPr b="0" lang="de-DE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8200" y="7009560"/>
            <a:ext cx="831600" cy="40212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defRPr b="0" lang="de-DE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1218240" y="7009560"/>
            <a:ext cx="1128600" cy="40212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2555280" y="7009560"/>
            <a:ext cx="831600" cy="40212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defRPr b="0" lang="de-DE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420BDBE-5D13-4E99-8E07-6E7804C508AD}" type="slidenum">
              <a:rPr b="0" lang="de-DE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Larissa">
  <a:themeElements>
    <a:clrScheme name="Larissa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6T08:06:30Z</dcterms:created>
  <dc:creator>Schürmann, Melanie</dc:creator>
  <dc:description/>
  <dc:language>en-US</dc:language>
  <cp:lastModifiedBy/>
  <dcterms:modified xsi:type="dcterms:W3CDTF">2017-05-04T14:27:02Z</dcterms:modified>
  <cp:revision>4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Benutzerdefiniert</vt:lpwstr>
  </property>
  <property fmtid="{D5CDD505-2E9C-101B-9397-08002B2CF9AE}" pid="3" name="Slides">
    <vt:r8>1</vt:r8>
  </property>
</Properties>
</file>