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2660650" cy="37766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40C59-8943-4B2C-86DC-F48C1E7A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6A587-76AD-402A-B318-969924BF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32840" y="150480"/>
            <a:ext cx="2394000" cy="29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9742F-99E6-4D83-A331-E9E90A45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D820B-8587-4843-90E6-E4309532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1F923-F249-44B0-AB57-664F9A58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B80A3-721D-4971-B91D-F11C582B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7A5D3-DD1F-4EBD-BFF1-E2E3F847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FAE2E-01B4-435F-8929-642EE46A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94248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75212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3284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94248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175212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FB771-110D-4D5B-BB4D-DEC4B3D2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2BE32-6392-4921-81A3-8A47D064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DC3B3-A89A-4283-BCBB-91A1D9B7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40810-2A11-4B91-895D-63979699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0DEA9-1156-4EB1-872F-4F1DB903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3B3F2-616D-4986-8BA0-A4BCD530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32840" y="150480"/>
            <a:ext cx="2394000" cy="29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A0220-1332-4B58-AA33-3A5F1297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79B2E-18CD-4046-9FEB-CE53C264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47B65-7CBA-44A7-AB28-30630487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43DA6-E852-4135-BD79-7DC966CF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7977F-129F-4977-96AD-3F50F84B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946C9-3ADC-42B6-B91C-C2509D6C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248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5212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3284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94248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75212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94248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75212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3284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94248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175212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7B3A8-10C0-4D14-BFAA-9173A658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2E939-2B80-4E87-A1BE-9FF2F1A1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3F1A1-02C3-43EE-AB23-8D2D38BA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982F0-A445-4594-8EFD-C0DA5E30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BF3D2-9C44-4E5C-A7AC-460B1F84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0EABA-33DA-4F6A-B3CC-22106A4B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32840" y="150480"/>
            <a:ext cx="2394000" cy="29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C8905-E1FF-4249-858D-C49FC97E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28284-81BB-4CCB-B983-51F2BD0D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6CE55-B8CF-449C-B548-898E915E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01502-9531-466D-A7BF-D67D5402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A9FB-E468-4018-89B1-85A1654B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9A6F9-82E3-46F1-95CB-D88991A1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F367E-3446-499B-B9A2-44DC0619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248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5212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3284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94248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175212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C22ED-6254-44DE-AFD0-90BCD65A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E763B-ADBB-4BF5-8160-C1E8E5D0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42583-E89F-4487-9E3B-F9BD8A8A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DBCF6-BBEF-4C81-A3BA-59ECA287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1A09B-324F-41CC-96D3-9B69D74F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FED5A-9657-4545-80C1-31F0E6F6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132840" y="150480"/>
            <a:ext cx="2394000" cy="29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F2AF0-805C-48F4-90A9-BDDD47A6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DFD53-E8BB-4F95-B803-FF43AEA6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B92-2C6F-448A-9290-D0D00650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B52B2-34DF-466A-9CD0-79A30E44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28720-F31A-475C-AA18-604A0480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F4C8F-81C8-4E82-9012-4579837D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3F933-B44E-4E72-8AD2-57FE493A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4248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75212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13284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94248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175212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BE005-4F5D-498E-B91A-85D7B937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966-3657-4C8F-937D-9C7F7F1F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EA63-CF30-4CBB-8E86-75D684BC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99E-1060-4EEE-9E8D-F700790D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2840" y="150480"/>
            <a:ext cx="2394000" cy="29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6F1-4D30-498A-9E73-37216682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201-40EB-4A62-A211-4460069E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A2B-D1C3-498D-A291-A6FFCD89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60C8-03E7-4CFB-B032-A7B07DBB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1E8-3182-4DEA-82D2-02A8A894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49E-C691-4EC4-8E81-C368D56C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4248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5212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3284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94248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175212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0C9-1B76-4090-95D7-4D4D584B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D0D5-53F4-4C57-B65D-2D0487EC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8FEF-A93D-4E38-9A2A-DBA64DD7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E68A-297F-4378-8376-249E8FE7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AC66-7E03-40B7-AD73-EB97F556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1B31-B78F-4779-A1A1-0D0AB29A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2840" y="150480"/>
            <a:ext cx="2394000" cy="29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A4E6-5B87-449F-BED6-5848FFAA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36DC-77BC-4802-81F9-BD44C884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2B11-CBFA-4460-9BA9-F88E0C5F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43D0-4FBB-42B7-8437-48D66423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4067-A227-4EA1-8AC9-6EB1D866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AD0B-7EBB-41B9-A8C9-84397796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4248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75212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3284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94248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175212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DF61-9F86-4EBD-9870-9AE673EB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99914-44A7-4D03-86BF-D75AB23B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E2DFA-BC2A-4C6C-84A5-6B2BC365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0EB31-F6DE-43A0-873A-1C8D3291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ACCA8-C949-4464-98F8-B39F1A83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D4768-3D52-4DAC-988F-A23E52F0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32840" y="150480"/>
            <a:ext cx="2394000" cy="29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EE946-7AB9-4EA1-8415-A3CE77D3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9BDCA-93EA-4095-B417-39D5D412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9A0DD-F186-414F-8DD6-891F90F7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3EE1B-37BD-422B-9EF6-3CCF043A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17543-F4BC-490C-A8E9-1610553B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90DD5-5520-40A2-87AF-FA73C608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94248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75212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3284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94248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175212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5097A-1E00-42EC-B9EB-3656FA42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4DBD1-1514-40B8-A473-459D84A2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0D6BE-5D79-41ED-94D2-80A45C3C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DB490-5AC5-40F9-BF83-4B178A06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E2A69-4E57-4B20-B7F0-7F0A15ED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1C7B1-380C-46B4-B6BD-2FB0E4A4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32840" y="150480"/>
            <a:ext cx="2394000" cy="29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83068-2581-4BFB-80AA-6FDF344B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22A28-E66C-4257-A717-E7D5009F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C737C-B8B2-436A-AA5F-0C9A4ECB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915BF-3E82-48F9-BC53-470C2997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A6371-F151-4683-89B7-0435B279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E3058-2867-4165-ABF2-8EFE81AC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32840" y="150480"/>
            <a:ext cx="2394000" cy="29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94248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5212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3284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94248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175212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6EE59-3AAA-4B88-AFCB-99D0A8DC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CF99A-EA32-4F0F-A35D-0E3D1FB7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5061B-0E95-4162-A659-2677B707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ABF65-4FA3-4D32-AB35-E63A5E9A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81795-FAF6-40DD-A1E6-7214B73C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1BAB1-FB15-4BD3-9CB0-C6F999D3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32840" y="150480"/>
            <a:ext cx="2394000" cy="29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52B78-6EC8-49C1-BC49-49390ED1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BE499-7B61-4069-AC41-1DDF07D0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1438C-496E-4286-974D-E6918FA6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9D102-68C4-40D5-BBBD-DC8814B6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7B380-55C4-4EC6-BBED-1132F3FF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2DC3B-2D66-4204-9C7D-368DF2D4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94248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75212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3284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94248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175212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61317-6526-49E3-896C-3A868A44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24C62-B39B-4241-9D51-517F3B90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50D45-4C81-435F-9E54-008F1214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6174F-980A-4CC2-BB83-0A5BC1EB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FFEDF-8A27-4CFF-9D0F-6B821FC9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69D6F-D85C-4F75-B5E8-8CE30179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32840" y="150480"/>
            <a:ext cx="2394000" cy="29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0BD62-47F6-4B84-9319-224E243B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524EE-8565-4685-8C68-4A5BDA9A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719E7-A40A-4C13-97C7-3B4DA19E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0A371-3544-46AF-A56D-305B3377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C16BD-8CD8-428C-924F-66DBBD41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E21F1-A1B5-47E5-A7E5-04AB54D2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4248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75212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3284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94248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175212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AF581-139E-4B0E-88B1-55509B1E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640FD-256A-4E1D-A08A-5C22B531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B613E-B700-4812-BCA9-56E6D966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C2CBC-0EC0-45E3-9DDE-03E46550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864EA-B7C6-45C4-AC7E-CADFA626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D0C82-B528-4855-90FB-9B0B0CF5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32840" y="150480"/>
            <a:ext cx="2394000" cy="29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B22BD-850F-4673-8556-16088DF0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D76E0-9B1C-49B3-AC46-CC905B56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C646D-7288-4FA2-9B87-DF2C6608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E57EF-9FB7-435D-8EC8-7036F091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32840" y="2027520"/>
            <a:ext cx="23940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32827-1E1B-4304-AF3C-54169C65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359720" y="88344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3284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359720" y="2027520"/>
            <a:ext cx="116820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7A61A-FA00-40E7-9067-8B7038D1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94248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752120" y="88344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3284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94248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1752120" y="2027520"/>
            <a:ext cx="770760" cy="10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C2306-F898-4770-9F9F-DF132DC6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AD1B5-9CA7-4E64-88A6-5A1EE7CE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A4C91-DD3C-4762-ADE7-0A7B1C0C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840" y="-52200"/>
            <a:ext cx="2394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B6937-EAF9-4D8E-9CE2-9B1FF917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1" descr=""/>
          <p:cNvPicPr/>
          <p:nvPr/>
        </p:nvPicPr>
        <p:blipFill>
          <a:blip r:embed="rId2"/>
          <a:stretch/>
        </p:blipFill>
        <p:spPr>
          <a:xfrm>
            <a:off x="-109440" y="-109440"/>
            <a:ext cx="2879640" cy="399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Bild 1" descr=""/>
          <p:cNvPicPr/>
          <p:nvPr/>
        </p:nvPicPr>
        <p:blipFill>
          <a:blip r:embed="rId2"/>
          <a:stretch/>
        </p:blipFill>
        <p:spPr>
          <a:xfrm>
            <a:off x="-109440" y="-109440"/>
            <a:ext cx="2879640" cy="39956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132840" y="3500280"/>
            <a:ext cx="62100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909360" y="3500280"/>
            <a:ext cx="84132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1906560" y="3500280"/>
            <a:ext cx="62064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F94BA293-3D8D-4700-860B-5E8456EAE818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Bild 1" descr=""/>
          <p:cNvPicPr/>
          <p:nvPr/>
        </p:nvPicPr>
        <p:blipFill>
          <a:blip r:embed="rId2"/>
          <a:stretch/>
        </p:blipFill>
        <p:spPr>
          <a:xfrm>
            <a:off x="-109440" y="-109440"/>
            <a:ext cx="2879640" cy="39956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132840" y="3500280"/>
            <a:ext cx="62100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909360" y="3500280"/>
            <a:ext cx="84132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1906560" y="3500280"/>
            <a:ext cx="62064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169A621B-426D-483D-957F-F95E1B4F7497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Bild 1" descr=""/>
          <p:cNvPicPr/>
          <p:nvPr/>
        </p:nvPicPr>
        <p:blipFill>
          <a:blip r:embed="rId2"/>
          <a:stretch/>
        </p:blipFill>
        <p:spPr>
          <a:xfrm>
            <a:off x="-109440" y="-109440"/>
            <a:ext cx="2879640" cy="39956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132840" y="3500280"/>
            <a:ext cx="62100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909360" y="3500280"/>
            <a:ext cx="84132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1906560" y="3500280"/>
            <a:ext cx="62064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C3ABC04E-75AD-4985-B977-E863203ADB73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Bild 1" descr=""/>
          <p:cNvPicPr/>
          <p:nvPr/>
        </p:nvPicPr>
        <p:blipFill>
          <a:blip r:embed="rId2"/>
          <a:stretch/>
        </p:blipFill>
        <p:spPr>
          <a:xfrm>
            <a:off x="-109440" y="-109440"/>
            <a:ext cx="2879640" cy="39956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132840" y="3500280"/>
            <a:ext cx="62100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909360" y="3500280"/>
            <a:ext cx="84132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906560" y="3500280"/>
            <a:ext cx="62064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AF000E34-D060-4C18-8F74-E4D771388846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132840" y="150480"/>
            <a:ext cx="239400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132840" y="883440"/>
            <a:ext cx="2394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194760" indent="-194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421560" indent="-1616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49440" indent="-128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10440" indent="-1292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170000" indent="-1288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170000" indent="-1288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170000" indent="-1288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Bild 1" descr=""/>
          <p:cNvPicPr/>
          <p:nvPr/>
        </p:nvPicPr>
        <p:blipFill>
          <a:blip r:embed="rId2"/>
          <a:stretch/>
        </p:blipFill>
        <p:spPr>
          <a:xfrm>
            <a:off x="-109440" y="-109440"/>
            <a:ext cx="2879640" cy="3995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132840" y="3500280"/>
            <a:ext cx="62100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909360" y="3500280"/>
            <a:ext cx="84132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1906560" y="3500280"/>
            <a:ext cx="62064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75519DE6-C6B6-4072-A9EB-A98A5FBB565D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Bild 1" descr=""/>
          <p:cNvPicPr/>
          <p:nvPr/>
        </p:nvPicPr>
        <p:blipFill>
          <a:blip r:embed="rId2"/>
          <a:stretch/>
        </p:blipFill>
        <p:spPr>
          <a:xfrm>
            <a:off x="-109440" y="-109440"/>
            <a:ext cx="2879640" cy="3995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132840" y="3500280"/>
            <a:ext cx="62100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909360" y="3500280"/>
            <a:ext cx="84132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1906560" y="3500280"/>
            <a:ext cx="62064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70A75BAB-2944-482E-8713-9318A96935C8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Bild 1" descr=""/>
          <p:cNvPicPr/>
          <p:nvPr/>
        </p:nvPicPr>
        <p:blipFill>
          <a:blip r:embed="rId2"/>
          <a:stretch/>
        </p:blipFill>
        <p:spPr>
          <a:xfrm>
            <a:off x="-109440" y="-109440"/>
            <a:ext cx="2879640" cy="39956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132840" y="3500280"/>
            <a:ext cx="62100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909360" y="3500280"/>
            <a:ext cx="84132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1906560" y="3500280"/>
            <a:ext cx="62064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B49E2851-0D94-464D-B457-2BA2E3E84F47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Bild 1" descr=""/>
          <p:cNvPicPr/>
          <p:nvPr/>
        </p:nvPicPr>
        <p:blipFill>
          <a:blip r:embed="rId2"/>
          <a:stretch/>
        </p:blipFill>
        <p:spPr>
          <a:xfrm>
            <a:off x="-109440" y="-109440"/>
            <a:ext cx="2879640" cy="3995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132840" y="3500280"/>
            <a:ext cx="62100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909360" y="3500280"/>
            <a:ext cx="84132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1906560" y="3500280"/>
            <a:ext cx="62064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FC3E1B0B-96CE-4EB7-BFCD-20B0C06A7D27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Bild 1" descr=""/>
          <p:cNvPicPr/>
          <p:nvPr/>
        </p:nvPicPr>
        <p:blipFill>
          <a:blip r:embed="rId2"/>
          <a:stretch/>
        </p:blipFill>
        <p:spPr>
          <a:xfrm>
            <a:off x="-109440" y="-109440"/>
            <a:ext cx="2879640" cy="3995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132840" y="3500280"/>
            <a:ext cx="62100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909360" y="3500280"/>
            <a:ext cx="84132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1906560" y="3500280"/>
            <a:ext cx="62064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B843E889-F1CB-42F3-B86B-0DAF2806A10B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Bild 1" descr=""/>
          <p:cNvPicPr/>
          <p:nvPr/>
        </p:nvPicPr>
        <p:blipFill>
          <a:blip r:embed="rId2"/>
          <a:stretch/>
        </p:blipFill>
        <p:spPr>
          <a:xfrm>
            <a:off x="-109440" y="-109440"/>
            <a:ext cx="2879640" cy="39956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132840" y="3500280"/>
            <a:ext cx="62100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909360" y="3500280"/>
            <a:ext cx="84132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1906560" y="3500280"/>
            <a:ext cx="62064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685DCF59-70F5-4B14-8852-0EA62B08A405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Bild 1" descr=""/>
          <p:cNvPicPr/>
          <p:nvPr/>
        </p:nvPicPr>
        <p:blipFill>
          <a:blip r:embed="rId2"/>
          <a:stretch/>
        </p:blipFill>
        <p:spPr>
          <a:xfrm>
            <a:off x="-109440" y="-109440"/>
            <a:ext cx="2879640" cy="3995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132840" y="3500280"/>
            <a:ext cx="62100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909360" y="3500280"/>
            <a:ext cx="84132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1906560" y="3500280"/>
            <a:ext cx="620640" cy="2016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400" bIns="32400" anchor="t">
            <a:noAutofit/>
          </a:bodyPr>
          <a:lstStyle>
            <a:lvl1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01640"/>
                <a:tab algn="l" pos="1403280"/>
                <a:tab algn="l" pos="2104920"/>
                <a:tab algn="l" pos="2806560"/>
                <a:tab algn="l" pos="3508200"/>
                <a:tab algn="l" pos="4210200"/>
                <a:tab algn="l" pos="4911840"/>
                <a:tab algn="l" pos="5613480"/>
                <a:tab algn="l" pos="6315120"/>
                <a:tab algn="l" pos="7016760"/>
                <a:tab algn="l" pos="7718400"/>
                <a:tab algn="l" pos="8420040"/>
                <a:tab algn="l" pos="9121680"/>
                <a:tab algn="l" pos="9823320"/>
                <a:tab algn="l" pos="10524960"/>
              </a:tabLst>
            </a:pPr>
            <a:fld id="{99FCA851-CAAE-45C5-9AE9-96EBCDF10572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2:30:30Z</dcterms:created>
  <dc:creator> </dc:creator>
  <dc:description/>
  <dc:language>en-US</dc:language>
  <cp:lastModifiedBy/>
  <dcterms:modified xsi:type="dcterms:W3CDTF">2017-05-08T07:44:35Z</dcterms:modified>
  <cp:revision>8</cp:revision>
  <dc:subject/>
  <dc:title>Folie 1</dc:title>
</cp:coreProperties>
</file>