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691813" cy="75596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8F663-7590-4042-8753-E3A6065A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2D752-3486-4192-A335-E4BB76FF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0A199-C128-49B0-96ED-E9288C14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06DED-25BF-43D1-9184-96DDF560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17D4D-6B2A-4841-A998-A2723EC5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9E3E9-9AE1-43E0-9B6B-605F2225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76748-675F-4DD6-A3A6-966EAACE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60F53-4466-4B4D-9124-BDA61C71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D64F8-3433-48C2-8E45-7BDD5D93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6A053-BA84-4A53-A0D4-6DA36D53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6CC32-A79F-4F6B-9C55-EDC167F8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C1F16-F6FF-46DB-B266-06D1B1A2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883C9-05F5-4ED8-AC5D-654BD3CB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0AFDF-228D-4ED6-ADC5-9405E54F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AE20A-3D7B-4109-BAB0-B6CE4E05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982C0-B13F-4135-B35C-C450E0FA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D57BB-6CAE-4481-A7DB-FBA35030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F44CD-D8C8-483F-BEE1-38E12E1C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990BA-9EA1-42CB-A8E8-F1840E24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2ED11-5B39-4667-8F0C-4E25C337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68CC0-A5DA-4D58-B720-72ACD901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11659-E2FB-482C-8422-3D818E08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44E16-17E6-45BB-B499-AB5A9B46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4B879-2CED-45CF-B1CB-E82D10A7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C0849-FCEC-4345-B08A-4FE48ECF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0B63A-7DD2-4694-8C04-E39CED9C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D3CAE-0C6F-4285-8E1E-273F03A4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4D3F0-17B5-4E23-9248-F48D1FA8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8D1EC-2C96-4761-A775-5CF6A7BB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357CB-1103-49FE-A968-8FC24062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51D-E803-40A4-8CCD-2ED1DCE3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4B16A-5E50-4AE0-8FE6-79CEA57D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5DE3E-46CF-457C-9C0B-BCABB477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907F8-48D5-434C-9358-3744E2F1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8A42E-5398-422F-B89A-8B22A4B5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F0D6A-0D37-4D91-BA9D-FFF99E07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B97B0-74AF-4A23-BCD2-523925E1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C6CBF-E707-4E57-911D-F9873067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2009F-A476-4BEC-9EDD-7AF449A9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43C94-121B-45A1-8579-05462822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B2F1A-740F-4D5E-AED3-8258CF35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4D27-2046-474E-B1E3-C64DE69B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CA91A-FCE7-4EDD-B676-89E0AB73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B8C24-D7DA-4EEE-A490-99224585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30F7C-CBCD-45DF-B2B2-7EBCF49F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30CB4-8D2C-41A8-A017-1659BA4E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D8819-FE3A-4B9C-A969-14B79954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C6D-E654-4DE5-BB8B-A3BEE872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F322-D345-4C6F-AFA5-72B7A23F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F6E-1CE9-4DC8-A718-06397092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98E6-294F-489A-AE0F-DC296090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E9C-383B-41ED-91C7-88C1EFE2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781-CC57-465B-800C-137206AA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7AE-631E-45D6-9B25-B60F786D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F6E-4F86-4EBD-98C4-0218A02D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A27F-0C66-43E0-9025-E811EADA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D6D-E429-461C-8690-F81BC688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7CCB-B7E0-4981-B728-0E44A978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4103-5E74-4822-B34C-3FD9B267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7EA4-EB14-46CA-AF63-43C247BF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74CF-D724-4578-AEFE-27C06C4F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B880-A4B9-4CE3-B2F4-95B45DA8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83C6-5014-417D-B1AB-018E2811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9590-0EBB-4255-BF30-C25B1DFB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B8DB-9DCE-4EF5-BD71-67D2F9E0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72FE-F177-44B5-85FC-DBB7F8E5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0D09-9798-4C2C-ABA7-B10EF605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E445-7594-49F3-BD0E-803A5B5F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B5E0-0671-4D54-A7C8-43351009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E1756-70D7-4B20-9763-2BA2FBDB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2AA50-4C88-4898-AC6B-07A8BBB3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0059D-B6F3-4924-A66F-FB827D11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ECB1F-E9BB-4F6E-B98E-C1BDB3F4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168FA-3B71-44E2-85E8-90B2397B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71BC5-1834-4711-94A6-F3CA5A68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C2DA0-70EE-43A9-AAAA-B16B3B63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D4656-803B-4C5E-BEBD-BC134CC8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FF35E-0348-4CB7-ACE3-68176269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F0D21-4BA5-4B33-9C6C-64A891F0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DA275-14ED-4584-838D-0B080301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B01B3-F523-45F8-966A-5C2AA8E6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B6377-D33C-4D60-8F5F-D27A9D92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FB3F5-F2CF-4998-9A65-8376C4B1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3E127-9D21-4E7E-A918-A9CDD183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3E4AA-E928-4E3B-9A10-80976FB2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00CB7-9F50-42BA-BF00-9C735A2D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102B6-D867-4FAE-853C-03FF0947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34A1D-7D0C-4F02-8290-440215A9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6EFCF-7DBB-46AC-94E9-11D7AD6C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52761-03F9-4289-85EF-355DC7D2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D437B-1988-4552-A206-35388F81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945DA-7A90-4F25-9BB1-38DAD1E4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8B45E-F70B-4D5C-A6B6-F4693CFF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6E9C6-E40F-45F6-9BD0-FDD171E4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C0A2A-E3C9-4923-A2A4-A8D186CE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FD626-BD93-4509-9065-8601E3CA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C0B7B-16F4-4B11-8054-50D934B9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62F97-F947-41FF-90AF-54D4DA96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4ADA4-EB1D-4B0D-B919-4F8CCFF2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8BFB2-9BE8-49AB-B853-A8897CBE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5EA3E-F386-45A2-8C57-F85EA3E0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8E402-4F91-4623-9390-C18A02EF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BF2E1-1A99-48B6-A9CB-85BE219F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8ADB0-8DB3-4107-95CC-CF572D8D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8ADB9-0622-498E-8B48-E366308F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B7FB6-76A1-4088-AFFA-66ED3215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C6776-B014-4DF4-B7E4-44A9B65A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CB3CD-07CA-4CB5-A3C6-7A1E9255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7F6F1-ADEA-4996-AF9F-836671A3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845B3-9EDF-4983-8B1B-B1E32D4E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86301-5AF5-455E-85C2-4FA00676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83116-42FD-46E3-AF17-1DE2F1B0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1CBA8-1EF8-4F30-B84F-4D5F313D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98A1F-1A5A-4B16-80F3-F42817B9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9E3D2-BD6F-4ED0-BBD4-BDD3F45E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71E2F-7532-4695-81EB-FF7FD880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4B012-AC6E-40A6-9FAE-A940F3D0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7802B-A5F0-4142-99FE-79E23CCA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E4165-0576-4C81-BD99-BB1FD69A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2F154-09FB-4DC2-90AA-FC3F5C11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FBF73-529D-429C-BFED-AE4F40EA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7E3DD-D984-4617-BCBD-0158DF30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E6F6B-DA72-48FA-9DFC-C1CC5F6F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3183E-D7E3-4324-B743-130CCB41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7F9EE-7C9D-4CB4-9CC8-3CCE48D4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43023-C1D8-4C38-AAD2-C843ADED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470BD-87B2-4EBA-826F-0CAFF26A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6F868-199A-4153-8B66-6D2E10AF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7E49F-7D51-424E-A16C-E9B50871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47164-A29D-4F41-B531-C0F6546A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77A72-45AF-4C7B-A1B8-E380D888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3E7A1-D45E-426C-BCED-F1A2A62F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d 1" descr="Vorlage_Block_liniert_mit_Rand_DIN_A4_quer.pdf"/>
          <p:cNvPicPr/>
          <p:nvPr/>
        </p:nvPicPr>
        <p:blipFill>
          <a:blip r:embed="rId2"/>
          <a:stretch/>
        </p:blipFill>
        <p:spPr>
          <a:xfrm>
            <a:off x="-108000" y="-108000"/>
            <a:ext cx="10944360" cy="779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Bild 1" descr="Vorlage_Block_liniert_mit_Rand_DIN_A4_quer.pdf"/>
          <p:cNvPicPr/>
          <p:nvPr/>
        </p:nvPicPr>
        <p:blipFill>
          <a:blip r:embed="rId2"/>
          <a:stretch/>
        </p:blipFill>
        <p:spPr>
          <a:xfrm>
            <a:off x="-108000" y="-108000"/>
            <a:ext cx="10944360" cy="77979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534960" y="7007400"/>
            <a:ext cx="24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652920" y="7007400"/>
            <a:ext cx="33876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7662960" y="7007400"/>
            <a:ext cx="24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5DC83AD1-CA61-4DBC-A827-6F7C10B1DDB6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Bild 1" descr="Vorlage_Block_liniert_mit_Rand_DIN_A4_quer.pdf"/>
          <p:cNvPicPr/>
          <p:nvPr/>
        </p:nvPicPr>
        <p:blipFill>
          <a:blip r:embed="rId2"/>
          <a:stretch/>
        </p:blipFill>
        <p:spPr>
          <a:xfrm>
            <a:off x="-108000" y="-108000"/>
            <a:ext cx="10944360" cy="77979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534960" y="7007400"/>
            <a:ext cx="24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652920" y="7007400"/>
            <a:ext cx="33876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7662960" y="7007400"/>
            <a:ext cx="24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B0AA66D1-E68A-4771-A175-FA8E6F7467CE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Bild 1" descr="Vorlage_Block_liniert_mit_Rand_DIN_A4_quer.pdf"/>
          <p:cNvPicPr/>
          <p:nvPr/>
        </p:nvPicPr>
        <p:blipFill>
          <a:blip r:embed="rId2"/>
          <a:stretch/>
        </p:blipFill>
        <p:spPr>
          <a:xfrm>
            <a:off x="-108000" y="-108000"/>
            <a:ext cx="10944360" cy="77979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534960" y="7007400"/>
            <a:ext cx="24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652920" y="7007400"/>
            <a:ext cx="33876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7662960" y="7007400"/>
            <a:ext cx="24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0338FEE4-CDF3-49B8-8638-030F28CE6AE0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Bild 1" descr="Vorlage_Block_liniert_mit_Rand_DIN_A4_quer.pdf"/>
          <p:cNvPicPr/>
          <p:nvPr/>
        </p:nvPicPr>
        <p:blipFill>
          <a:blip r:embed="rId2"/>
          <a:stretch/>
        </p:blipFill>
        <p:spPr>
          <a:xfrm>
            <a:off x="-108000" y="-108000"/>
            <a:ext cx="10944360" cy="77979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534960" y="7007400"/>
            <a:ext cx="24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652920" y="7007400"/>
            <a:ext cx="33876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7662960" y="7007400"/>
            <a:ext cx="24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F2B8E046-4862-405D-B39C-535C3F640DE5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44520" indent="-247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741320" indent="-247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39920" indent="-2476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39920" indent="-2476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39920" indent="-2476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Bild 1" descr="Vorlage_Block_liniert_mit_Rand_DIN_A4_quer.pdf"/>
          <p:cNvPicPr/>
          <p:nvPr/>
        </p:nvPicPr>
        <p:blipFill>
          <a:blip r:embed="rId2"/>
          <a:stretch/>
        </p:blipFill>
        <p:spPr>
          <a:xfrm>
            <a:off x="-108000" y="-108000"/>
            <a:ext cx="10944360" cy="7797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534960" y="7007400"/>
            <a:ext cx="24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652920" y="7007400"/>
            <a:ext cx="33876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7662960" y="7007400"/>
            <a:ext cx="24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DE395766-9B0C-43AE-AE16-FA0394AF1D44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Bild 1" descr="Vorlage_Block_liniert_mit_Rand_DIN_A4_quer.pdf"/>
          <p:cNvPicPr/>
          <p:nvPr/>
        </p:nvPicPr>
        <p:blipFill>
          <a:blip r:embed="rId2"/>
          <a:stretch/>
        </p:blipFill>
        <p:spPr>
          <a:xfrm>
            <a:off x="-108000" y="-108000"/>
            <a:ext cx="10944360" cy="7797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534960" y="7007400"/>
            <a:ext cx="24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652920" y="7007400"/>
            <a:ext cx="33876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7662960" y="7007400"/>
            <a:ext cx="24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F95809E9-14C8-4667-8855-502002FBDC10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Bild 1" descr="Vorlage_Block_liniert_mit_Rand_DIN_A4_quer.pdf"/>
          <p:cNvPicPr/>
          <p:nvPr/>
        </p:nvPicPr>
        <p:blipFill>
          <a:blip r:embed="rId2"/>
          <a:stretch/>
        </p:blipFill>
        <p:spPr>
          <a:xfrm>
            <a:off x="-108000" y="-108000"/>
            <a:ext cx="10944360" cy="77979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534960" y="7007400"/>
            <a:ext cx="24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652920" y="7007400"/>
            <a:ext cx="33876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7662960" y="7007400"/>
            <a:ext cx="24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C92ECDB3-33FC-4A31-8ED5-21E07199F0D5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Bild 1" descr="Vorlage_Block_liniert_mit_Rand_DIN_A4_quer.pdf"/>
          <p:cNvPicPr/>
          <p:nvPr/>
        </p:nvPicPr>
        <p:blipFill>
          <a:blip r:embed="rId2"/>
          <a:stretch/>
        </p:blipFill>
        <p:spPr>
          <a:xfrm>
            <a:off x="-108000" y="-108000"/>
            <a:ext cx="10944360" cy="77979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534960" y="7007400"/>
            <a:ext cx="24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652920" y="7007400"/>
            <a:ext cx="33876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7662960" y="7007400"/>
            <a:ext cx="24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3F4E8665-045D-4B59-B34A-603A18368365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Bild 1" descr="Vorlage_Block_liniert_mit_Rand_DIN_A4_quer.pdf"/>
          <p:cNvPicPr/>
          <p:nvPr/>
        </p:nvPicPr>
        <p:blipFill>
          <a:blip r:embed="rId2"/>
          <a:stretch/>
        </p:blipFill>
        <p:spPr>
          <a:xfrm>
            <a:off x="-108000" y="-108000"/>
            <a:ext cx="10944360" cy="77979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534960" y="7007400"/>
            <a:ext cx="24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652920" y="7007400"/>
            <a:ext cx="33876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7662960" y="7007400"/>
            <a:ext cx="24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CDDE152F-BBC0-403D-8210-361148291C4E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Bild 1" descr="Vorlage_Block_liniert_mit_Rand_DIN_A4_quer.pdf"/>
          <p:cNvPicPr/>
          <p:nvPr/>
        </p:nvPicPr>
        <p:blipFill>
          <a:blip r:embed="rId2"/>
          <a:stretch/>
        </p:blipFill>
        <p:spPr>
          <a:xfrm>
            <a:off x="-108000" y="-108000"/>
            <a:ext cx="10944360" cy="77979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534960" y="7007400"/>
            <a:ext cx="24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652920" y="7007400"/>
            <a:ext cx="33876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7662960" y="7007400"/>
            <a:ext cx="24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B0478ADB-576C-47F7-BECF-B019AF87050D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Bild 1" descr="Vorlage_Block_liniert_mit_Rand_DIN_A4_quer.pdf"/>
          <p:cNvPicPr/>
          <p:nvPr/>
        </p:nvPicPr>
        <p:blipFill>
          <a:blip r:embed="rId2"/>
          <a:stretch/>
        </p:blipFill>
        <p:spPr>
          <a:xfrm>
            <a:off x="-108000" y="-108000"/>
            <a:ext cx="10944360" cy="77979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534960" y="7007400"/>
            <a:ext cx="24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652920" y="7007400"/>
            <a:ext cx="33876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7662960" y="7007400"/>
            <a:ext cx="24955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745EF2B5-294E-4A32-8C93-D07CCE4911F1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2:30:30Z</dcterms:created>
  <dc:creator> </dc:creator>
  <dc:description/>
  <dc:language>en-US</dc:language>
  <cp:lastModifiedBy>Andreas Vorbau</cp:lastModifiedBy>
  <dcterms:modified xsi:type="dcterms:W3CDTF">2013-04-29T14:57:34Z</dcterms:modified>
  <cp:revision>4</cp:revision>
  <dc:subject/>
  <dc:title>Folie 1</dc:title>
</cp:coreProperties>
</file>